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A61C-3CF1-4298-998E-B3D99A4D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FAC-58F7-46E9-AFC7-81116989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3F1D-28C2-436C-95EC-F13AC008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FD7-FA3F-4182-9DD3-B4B5226B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B5CA-7B3B-4CD6-992B-53267C4A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F4F7-D2D1-459B-BE08-4AA89237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E3C3-B0B9-4876-B6B1-52942417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85EF-87E7-4D91-B803-D15302A1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B104-05B3-498B-8D67-9ED444C9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5102-844A-455C-B6D3-9CF376A3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E6C8-A5BC-4BFA-BF78-5210BB4C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B24-4CBE-4C0A-913E-7E70556F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3E45-63A2-49B4-9A53-EED29E75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1F75-C3B3-440B-B834-453C73CA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C1D7-67B0-40F7-BAC9-F1B13088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3A50-E4A6-43BB-817E-DE903272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FD93-A236-45B5-8D61-8D3A8BEA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CCC9-3550-40E5-99A9-2D7C6344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F8B2-1EB3-4D19-85BC-91160C2A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0052-BCA0-4B2D-97F8-57983B70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48A-7576-4B2E-8366-57835026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242-ABAA-47F3-B1AF-E22E8982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675-5E35-4BD6-9997-40E0E351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41D9-09CC-4C42-945F-ABC87232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0DB7-09A0-4870-B4B4-D1874B264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2E9D-AF5D-4FC3-A1AC-3D7E1A1DE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LIZARD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MICHAEL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1320" y="4495680"/>
            <a:ext cx="1882800" cy="682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787920" y="2535120"/>
            <a:ext cx="1566720" cy="1787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858000" y="2286000"/>
            <a:ext cx="1074600" cy="1793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657600" y="5029200"/>
            <a:ext cx="18050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 YOU LIKE LIZARDS?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 HOPE YOU D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666880" y="3886200"/>
            <a:ext cx="36576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ID YOU KNOW LIZARDS  ARE HATCHED FROM  EGGS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ZARD eggs are  really  really delic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 rot="15867000">
            <a:off x="3589920" y="1679760"/>
            <a:ext cx="502452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d  you  know there  are 3,500 species  of  lizard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 you  know  an  iguana  is a  lizar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uanas  are  special  because they are  sma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 rot="842400">
            <a:off x="3244320" y="4641840"/>
            <a:ext cx="22212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id you  know  some lizards have horns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lizards have small hor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487656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d  you know  lizards are found every wher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 are found in Pakist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14600" y="4495680"/>
            <a:ext cx="365760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zards  are really really  cool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3956040" cy="930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562720" y="4648320"/>
            <a:ext cx="28810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20:08:20Z</dcterms:modified>
  <cp:revision>5</cp:revision>
  <dc:subject/>
  <dc:title>Animal Name</dc:title>
</cp:coreProperties>
</file>